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76C2-A5D1-4E1B-B66B-7E2438197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at to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know where to grow… if they are all the sa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 are differen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5B3B-0F81-40B6-B287-39A881A6D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t bring book out of library. Make copies of pages you need. Leave libr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3A59-C094-4D53-95A3-06A58E6D6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944-A6AA-4B22-AFCD-9059805FC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AC6-6F27-4F19-90F4-2800306C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3CFE-EA6B-4D72-909B-5601229D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8D7-1D93-45C7-8BA5-DCB27CAD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8FFA-0237-4D6A-9AE5-76EF60A24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4985-DADB-4C97-B02C-60140171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32F3-6101-4025-9080-14FAD24D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F562-F6A7-4082-A9DA-7DB1258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D457-321F-4B0B-BA19-68E0C5E5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662C-C7C2-4E69-85E8-C33FB46F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A61D-DBBF-4B3D-B6DE-8FB47730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71D-E236-49CA-9816-F5420C1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D58-F020-44C5-B270-7C3D96C5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44B2-5284-4DDE-BC57-6B0A4FF1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141B-D8E9-42BB-AEFF-F88461C0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414D-6B4D-45E9-8EB7-3CD95E14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B1D-3192-45F7-96F3-E6842C98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FF0B-4771-480E-BA58-50E0483A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1E70-1348-4C32-8D54-0D898F722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BBE32-D89C-4FA3-AFFA-8367543F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E2960-C884-4147-AF83-4960E613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51B03-72D1-43D3-BF79-A59C30B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83677-C95A-473A-BF1F-ADEC6A83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604-5692-40F4-9A66-2FDA9117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644E-6CC5-438A-BFFC-8B9E520A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3983-943D-4F4E-BC8A-38044652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96F0-0B45-485E-9D81-B0513928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44185-07BC-45A2-9146-6A0F0473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0314D-46D8-4811-AD14-3175EB35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5803E-5B83-47CF-9730-19166F94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CB5D-0C1C-4F31-8434-22E797D4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7D91-3014-41C4-96B7-06D79B1C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E03DA-6635-488A-B8CF-375155C0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1F82D-282B-40A4-B4B5-A99062F1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103-99B0-4FB6-856E-C1D76D91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44767-1D47-492D-9409-9AC24A98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F5000-1884-4C46-BFB0-7C197DAA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9710-A76E-47E9-9F1E-8FDA39D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EA95-7E90-4541-8EA6-4E98DD8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E851A-AD1F-4627-8A0A-3E991F4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1F881-6654-4E1C-988A-3B534C8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6BF6-49E9-464C-A5D9-C4D2C47B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3FE1-1B52-4721-89E2-0C588B55E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C99C5-E7F8-4938-9598-457553F8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597E4-493B-4DB4-ACA5-84646A01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045-6B51-4B5F-9439-64F4044B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C874-71C2-48F1-82A0-F8E6F08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6AACB-D18A-4B4F-95CA-712998E3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3D3B-7433-4EAA-BC82-4CADCA54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FB00C-6D6F-4DB7-A47A-026418B8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E87E4-9C29-43B7-8B30-E7F50B59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2F60E-A3D1-4602-8FA7-1E224AD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E85E-048B-472E-8F92-8FFF71B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F2F6-13A5-4CA3-AF04-9F6E6DBD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5F909-72A2-4C45-88B0-59255841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A6107-5A28-4826-A2B6-73FFE0B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C432-91DA-4EF0-90F8-9566466F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8D8E2-5AA6-4449-9C3E-D755AD68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73C5A-9519-49BD-8BF5-9D6D7B2E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AFF3-D6F7-4331-A257-BDD8A822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02F3D-84AE-42F5-9F2E-5E620577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43695-389B-4D8E-B19C-A293E664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867B2-847E-4E03-BA23-34DA4301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F0A0-232E-4CB2-90E2-65866402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047B6-328A-4CA1-BCD5-58900781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EBAF-91A4-4733-A98C-BD787925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3341-83EA-4994-B3DA-C1040E4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C93-40EA-4867-BD37-152AF525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5C0ED-7DD7-4B8D-8710-223DE662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4919A-4F3A-4CDE-8330-A508D892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CB512-5943-4D32-AC40-7CEE29B6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EB0D8-AC80-43AD-A324-DC97A25D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EEF96-AD63-473B-A127-65A56F19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33312-555E-4A44-AAB6-94F71A73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3116-E666-4300-B64B-1D473BB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88C77-F524-4EBD-8B26-B36F5765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B540F-1650-46D2-A4D1-923A0F1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029D3-DEB4-4C1C-AC66-8357987B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0B7A-5346-4CAF-AC3A-75A7B67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E44A4-0463-40C2-BA38-46103B3D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D70F3-4B66-4F9B-9861-42E0952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EB78-A590-4A1C-8E73-458F309B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7929A-D9AA-43BE-8AD6-C5D8FC2A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C2A66-2FB6-4A7C-93CA-77C7912E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E7CD-1DBF-45BE-974D-5624CD33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CA4E-A648-42F7-948B-975FF4548494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AB2-E663-4BE1-B30B-F3D14EA2030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DB0-20D7-4B59-84F5-538A4FE09AB0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6AAA-4ADF-4EE9-B469-F587A91C6C2F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C475-BF39-42E2-ABA2-34090262F0E9}" type="datetime">
              <a:rPr b="0" lang="en-US" sz="1200" spc="-1" strike="noStrike">
                <a:solidFill>
                  <a:srgbClr val="fffff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A0B8-842E-46EC-8185-67CDF9CEF71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284-9B74-4EB0-A41D-42505F8CDD6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EE92-B818-4C1C-ACB6-7CD5081A1AC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585B-FD9C-405D-9CCD-4A9106116DFD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A0B1-C554-482B-BCD1-5DDCE9ECFBB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0961-4E7B-494E-80B2-81497216B60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8821-0FAD-4517-B03D-54AEBC8D3C1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3FBD-A13B-403B-B377-2852453CEB7C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F61C-39A7-4DD1-8308-647F415ADDD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-class.unl.edu/biochem/gp2/m_biology/animation/gene/gene_a2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0/07/Gene.png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Oval Callout 19"/>
          <p:cNvSpPr/>
          <p:nvPr/>
        </p:nvSpPr>
        <p:spPr>
          <a:xfrm>
            <a:off x="304920" y="914400"/>
            <a:ext cx="8686800" cy="42670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47880">
            <a:solidFill>
              <a:srgbClr val="2f62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f DNA is in all of my cells why aren’t my cells all the sam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43B1-E5FE-49C2-8300-16D60F78630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D329-69A6-47BC-A2FC-40A78DC3D0C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5410080" y="2971800"/>
            <a:ext cx="1371600" cy="1219320"/>
          </a:xfrm>
          <a:prstGeom prst="ellips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Point Star 16"/>
          <p:cNvSpPr/>
          <p:nvPr/>
        </p:nvSpPr>
        <p:spPr>
          <a:xfrm>
            <a:off x="3962520" y="3886200"/>
            <a:ext cx="1752480" cy="1066680"/>
          </a:xfrm>
          <a:custGeom>
            <a:avLst/>
            <a:gdLst>
              <a:gd name="textAreaLeft" fmla="*/ 399960 w 1752480"/>
              <a:gd name="textAreaRight" fmla="*/ 1352520 w 175248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lowchart: Sequential Access Storage 17"/>
          <p:cNvSpPr/>
          <p:nvPr/>
        </p:nvSpPr>
        <p:spPr>
          <a:xfrm>
            <a:off x="6934320" y="2971800"/>
            <a:ext cx="1676160" cy="838080"/>
          </a:xfrm>
          <a:prstGeom prst="flowChartMagneticTape">
            <a:avLst/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miley Face 20"/>
          <p:cNvSpPr/>
          <p:nvPr/>
        </p:nvSpPr>
        <p:spPr>
          <a:xfrm>
            <a:off x="380880" y="4724280"/>
            <a:ext cx="2286000" cy="1905120"/>
          </a:xfrm>
          <a:prstGeom prst="smileyFace">
            <a:avLst>
              <a:gd name="adj" fmla="val 9282"/>
            </a:avLst>
          </a:prstGeom>
          <a:solidFill>
            <a:srgbClr val="f0ad00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0880" y="17524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168bba"/>
                </a:solidFill>
                <a:uFillTx/>
                <a:latin typeface="Arial"/>
                <a:ea typeface="Arial"/>
                <a:hlinkClick r:id="rId1"/>
              </a:rPr>
              <a:t>http://www-class.unl.edu/biochem/gp2/m_biology/animation/gene/gene_a2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stolaf.edu/people/giannini/flashanimat/molgenetics/transcrip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2C29-8924-450D-8B43-8402BB6DDAAA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886-2624-4E29-BA0C-55532F73023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ease add the complementary strand to this half of DN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G GAC CAT TTC CCG GT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w transcribe  ( the new strand to D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A910-8F5A-4647-B035-635DE2BE01D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589E-6B04-4DCE-8F44-9105EDA37CD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code is now in English thanks to the enzyme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he DNA couldn’t move out of the cell, but RNA can!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RNA moves from nucleus to Ribosome  in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ytoplas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 ribosome reads it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ow Ribosome cannot build a house by himself anymore than  you or I so he has some help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FB063-680E-4459-8301-F8D8FB101A9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6DD5-41C8-4D02-885F-8E07B06324A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4" descr=""/>
          <p:cNvPicPr/>
          <p:nvPr/>
        </p:nvPicPr>
        <p:blipFill>
          <a:blip r:embed="rId1"/>
          <a:stretch/>
        </p:blipFill>
        <p:spPr>
          <a:xfrm>
            <a:off x="347760" y="23760"/>
            <a:ext cx="8345520" cy="1390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NA travels to Ribosome in th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ytoplas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, and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aches the the  instructions (mRNA) to the Riboso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ibosome then  reads the instructions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Remember that the ribosome cannot do this alon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He Translates it for his workers, and tells them what pieces he needs to make the house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D7A3-9A54-46D9-8BA1-118EE6C7D9C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C686-8D56-4542-A29B-D81B70FD317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is workers names are </a:t>
            </a:r>
            <a:br>
              <a:rPr sz="3000"/>
            </a:b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 RNA  (tRNA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y bring amino acids and deliver them to Ribosome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bosome tells them what order to bond them together with a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eptide bo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, and  they then leave to bring more piec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In this way every protein in the body is made from a chain of amino acids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067-12E6-4571-9202-A8A9E767812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D37-19C4-40DE-805D-D248C685A6CF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stolaf.edu/people/giannini/flashanimat/molgenetics/translation.swf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-class.unl.edu/biochem/gp2/m_biology/animation/gene/gene_a3.htm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5C3-217D-4FB5-BF7E-03E7CDE3894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F6F6-6411-4B07-9462-8D6F5AA149F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crip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 Enzyme  called transcriptase unzips and Transcribes the DNA into (messenger RNA) mRNA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ingle chain with Uricil instead of  Thymin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RNA takes the message to Ribosom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lation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ibosome gets help from Transfer RNA (tRNA) and builds a chain of amino acids (protein)  Turning a code into a protein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buClr>
                <a:srgbClr val="60b5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re are many Ribosomes in a cell, and they can all work on different proteins at the same time.. In this way the cell can build even faster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3830-9D81-49F1-A36E-4CA5DD0FF13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556-ECC7-4DB6-B0BD-3AE161230C1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4F41-29E5-415A-A965-4E3A727A695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F87E-6ACF-4458-AB46-F950B8BDF0C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http://www.accessexcellence.org/RC/VL/GG/images/protein_synthesis.gif"/>
          <p:cNvPicPr/>
          <p:nvPr/>
        </p:nvPicPr>
        <p:blipFill>
          <a:blip r:embed="rId1"/>
          <a:stretch/>
        </p:blipFill>
        <p:spPr>
          <a:xfrm>
            <a:off x="1082520" y="685800"/>
            <a:ext cx="54738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4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61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strand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ymin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romos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648320" y="1773000"/>
            <a:ext cx="4038480" cy="4624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ngle stran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rici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e than one typ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3147-F7FA-497F-8D18-7CB76070D13E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5C44-2043-44B4-B641-470CAD5B842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09440" y="755640"/>
            <a:ext cx="8510760" cy="107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essenger RNA (m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ngs instructions from DNA in the nucleus to the cytopla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bosomal RNA (r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nds to the mRNA and uses instructions to assemble the amino acids in the correct ord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fer RNA (tRNA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Supplier. Delivers amino acids to the ribosome to be assembled into a protein. (amino acid delivery truck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www.mtrinstitute.com/images/DNA.jpg"/>
          <p:cNvPicPr/>
          <p:nvPr/>
        </p:nvPicPr>
        <p:blipFill>
          <a:blip r:embed="rId2"/>
          <a:stretch/>
        </p:blipFill>
        <p:spPr>
          <a:xfrm>
            <a:off x="243000" y="1600200"/>
            <a:ext cx="8291520" cy="525780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E174-30B1-41D9-9C98-9A04CDA00B6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E0D6-BEF8-4B8C-98B9-07753FABD30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learn.genetics.utah.edu/content/begin/dna/transcribe/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E98C-6D1D-4A2D-9ACA-2A26481114F0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51EE-4854-43C0-A08E-15E608DE77C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Arial"/>
              <a:ea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39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60BB-3F12-4369-B870-948E04A01977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368B-FEAD-4C63-8D5B-B43CC53711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" descr=""/>
          <p:cNvPicPr/>
          <p:nvPr/>
        </p:nvPicPr>
        <p:blipFill>
          <a:blip r:embed="rId2"/>
          <a:stretch/>
        </p:blipFill>
        <p:spPr>
          <a:xfrm>
            <a:off x="1447920" y="1746360"/>
            <a:ext cx="6848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biostudio.com/demo_freeman_protein_synthesis.ht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didn’t like this one as much, but it does let you see th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vcell.ndsu.edu/animations/translation/movie.htm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me extra terms, but goo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1A33-2DC0-47C3-8D6E-24BC30CC6CB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1603-89BD-42FF-A9C6-C9A35F8E407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41_Ne5mS2l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ranscription and translation ( very goo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CDB2-65C2-4DB2-9452-3AF5C1F7C73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E526-F6F4-4A9C-B634-C52E66A4272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742240" cy="1262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hippocampus.org/hippocampus.php/course_locator.php?course=AP%20Biology%20I&amp;lesson=12&amp;topic=1&amp;width=600&amp;height=350&amp;topicTitle=The%20Transcription%20of%20DNA%20to%20RNA%3A%20Overview&amp;skinPath=http://www.hippocampus.org/hippocampus.skins/default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3995-412F-478D-9A16-9046AE74F3A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427-0470-4BA9-992A-FDC6FFDB2C5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80880" y="175248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www.hippocampus.org/hippocampus.php/course_locator.php?course=AP Biology I&amp;lesson=11&amp;topic=1&amp;width=600&amp;height=350&amp;topicTitle=DNA%20Replication%3A%20Overview&amp;skinPath=http://www.hippocampus.org/hippocampus.skins/defaul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lick on number 4!!!!!!!!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ere is extra information in this video that you won’t need to know for Our cla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CCF-6910-4AC9-A84B-6BA3900AC8E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1725-58F2-480F-AA99-ED64F85B146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ttp://highered.mcgraw-hill.com/olc/dl/120077/bio25.swf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E944-2C46-4AC8-890F-74642C073E7B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A1B3-E1AD-4773-9FB6-E0B7216234B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t they all have the information so they could be the sam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NA fragm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9FCC-9F8F-4945-B975-4839CDC5EB72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2B75-88D7-4720-AB56-EF47A08C07E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teins have job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at are some things they can do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 proteins are called enzymes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 are structural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Where are proteins  made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ibosom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D9EE-C578-4D45-9785-F867EF7C13D5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1CFD-B13F-4328-A26B-F0BD7D352D1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2" descr="http://www.dreamingintechnicolor.com/IdeaLab/membrane_proteins.jpg"/>
          <p:cNvPicPr/>
          <p:nvPr/>
        </p:nvPicPr>
        <p:blipFill>
          <a:blip r:embed="rId2"/>
          <a:stretch/>
        </p:blipFill>
        <p:spPr>
          <a:xfrm>
            <a:off x="914400" y="2362320"/>
            <a:ext cx="73152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4" descr=""/>
          <p:cNvPicPr/>
          <p:nvPr/>
        </p:nvPicPr>
        <p:blipFill>
          <a:blip r:embed="rId1"/>
          <a:stretch/>
        </p:blipFill>
        <p:spPr>
          <a:xfrm>
            <a:off x="189000" y="212760"/>
            <a:ext cx="4316400" cy="1012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3657600"/>
            <a:ext cx="8229600" cy="26510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NA is made up of thousands of smaller pieces called genes.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of these genes are “turned on” and can be “read” depending on the cell, and the cells jo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1555-BEE0-470D-B964-0744EF1A900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4C15-26B5-4B36-A97E-9B5CAD4B13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2" descr="File:Gene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304920"/>
            <a:ext cx="457200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These genes are marked in code that enzymes can read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Back to gene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Each gene (gene can be thousands of nucleotides long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d0d0d"/>
                </a:solidFill>
                <a:latin typeface="Arial"/>
                <a:ea typeface="Arial"/>
              </a:rPr>
              <a:t>Each single protein has a special purpose in a cel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Liver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80000"/>
              </a:lnSpc>
              <a:spcBef>
                <a:spcPts val="550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Arial"/>
                <a:ea typeface="Arial"/>
              </a:rPr>
              <a:t>Enzyme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Skin cell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Muscle cell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189E-EB10-45DB-978C-75F084CD0888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7F56-B5F8-425A-922F-E6EB98A8F5D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 now we know what we are copying we are copying the blueprint for a protein…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But HOW do we do it???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Easy right?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magine you are trying to build a house… (cell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are the problem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…….the blueprints are locked inside the library (nucleus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 … The blueprints are written in another language…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90000"/>
              </a:lnSpc>
              <a:spcBef>
                <a:spcPts val="499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… The man (Ribosome) who is going to build the house isn’t allowed inside the library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2516-5157-418F-B44D-3B8276A5C656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AB68-2C93-4A7D-8DC7-6577DEFA973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4" descr=""/>
          <p:cNvPicPr/>
          <p:nvPr/>
        </p:nvPicPr>
        <p:blipFill>
          <a:blip r:embed="rId1"/>
          <a:stretch/>
        </p:blipFill>
        <p:spPr>
          <a:xfrm>
            <a:off x="219240" y="-12600"/>
            <a:ext cx="8474040" cy="1433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 are enzymes inside the library(nucleus) that are able to change the DNA code into “english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step is call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cription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enzyme (RNA polymerase) does this by unzipping the DNA, and reading one side making a copy of the DNA, (almost like replication and changing it so that Ribosome will be able to read it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Date Placeholder 2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13A0-12DE-4F60-9FDD-142649A04A2F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322-E8DC-45B2-AE7D-89129EC24A1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is copy is called mRNA (messenger Ribonucleic acid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ead of being a double strand RNA is single stranded, and uses Uricil instead of thym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acil bonds with Adenine in RN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lnSpc>
                <a:spcPct val="100000"/>
              </a:lnSpc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zyme knows where to  start and stop copying the DNA  because the DNA has a start, and stop code in those plac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2719-B515-4A6C-BDFE-2FA2F6A1F8C3}" type="datetime">
              <a:rPr b="0" lang="en-US" sz="1200" spc="-1" strike="noStrike">
                <a:solidFill>
                  <a:srgbClr val="3f3f3f"/>
                </a:solidFill>
                <a:latin typeface="Corbe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C07D-8119-42B6-9D21-5F3C7E1C6B4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3:43:30Z</dcterms:created>
  <dc:creator>Registered User</dc:creator>
  <dc:description/>
  <dc:language>en-US</dc:language>
  <cp:lastModifiedBy>Registered User</cp:lastModifiedBy>
  <dcterms:modified xsi:type="dcterms:W3CDTF">2009-01-30T02:55:58Z</dcterms:modified>
  <cp:revision>206</cp:revision>
  <dc:subject/>
  <dc:title>Heredity and Inheritance</dc:title>
</cp:coreProperties>
</file>